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64D4-11F8-4736-B709-BB092EBD06D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E0C3-E089-4FE8-8989-DFCBE587A59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035D-A862-4127-BBDA-F27A348E7A6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58DD-D603-46C6-A986-9F4F16BE26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72A6-BBF8-4F1E-AB82-89BB2E8C04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5E0A-D77F-4DF9-9864-24D1E14EBDD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05D-03B1-4A04-B4CD-F3F29679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9D1-0881-43FD-81B9-A2A87144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D6E-BEE3-40C8-A282-2E77DC72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A11-7FDE-408D-828F-E74A3A24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525B-1FFF-4644-817D-81E333B0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CBB1-8A22-4FAC-8703-8DD8C3CC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60B8-884E-473A-85D7-37C4AD74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E2C9-A36A-44DC-869A-1644D6FF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6FC1-8DC9-421A-9FE7-A2E658D1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AA69-7DE9-4A5A-9B0B-DDE9720E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9FF5-631D-4F0C-A436-46708E78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082-D4E4-4409-8306-A5CBF102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9FE8-4CF5-45F9-B71B-A791EDAC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F289-8439-4478-BBAB-741666F9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490E-EDFD-4454-800F-AF826CE9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7DB7-E46C-4809-9105-635E74EE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220B-1D40-45ED-8429-2228EA4A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C3C2B-92B2-448C-AB80-B276DC3D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D65F-F7F3-4E3C-A697-F6D87A2B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EB62-2DD2-4E2A-B5AF-05B5A7C3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EF6B-13CD-491F-9C4C-FEA88990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E219-BA21-44EA-B303-228F088F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2B2-C0F9-4D22-BFC8-C4512101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D3B58-B092-4091-9119-C93648B8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F85D-193B-4474-8841-A61E8700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A327-F7B2-4602-9CB7-EF9B014F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1A1F1-D2D7-4463-ABBC-64FC3E9A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1490-F0FD-47D3-9A37-538CBB43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49EB0-D1A2-4CDA-8EE7-D318BCD4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7BA7-FDC8-45D3-9B54-66DC15FC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CF71-644F-4465-915C-41AD7A06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1CC94-9EE5-463A-B975-3C91EEB6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50D8-212B-40E1-994D-B49C3DE0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796-E71E-41BF-93FA-C4D4E74B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F546-7BC8-4FF1-BDA0-CA1638CA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89976-F85E-49CE-B00E-E367D060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A65BA-9734-42CB-8799-E928C5F4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91925-72A3-4717-9644-65B2539C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06981-803F-4C23-BEEE-A8105E3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66A2-B45B-4B15-9B59-1322EB89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9CD04-7BB5-401C-8EA8-8E33E011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F1A49-3C56-4C3A-8277-149D2984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D53D-77B8-4E6B-A838-E2002FA8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FA1-D400-4BBD-9542-1B8BE7F7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379-29CB-4DFD-914F-B648E140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CC3-7011-431C-96B4-1480ED85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FF2-EC3C-460D-95D6-2690755C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0D9-708E-46F6-AC15-1CCCCFB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67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166A-5B5F-4578-87D3-5982C9E92904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67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5F7F-169A-4509-87AC-2814EA2F8C42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67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DF5E-A5DB-465B-B82B-4A35D75455CD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67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4C69-6803-4FC3-A9DE-7B68E29F5499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1116000" y="260280"/>
            <a:ext cx="727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чрезвычайных ситуаци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ыргызской Републик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МЧС"/>
          <p:cNvPicPr/>
          <p:nvPr/>
        </p:nvPicPr>
        <p:blipFill>
          <a:blip r:embed="rId1"/>
          <a:stretch/>
        </p:blipFill>
        <p:spPr>
          <a:xfrm>
            <a:off x="8166240" y="260280"/>
            <a:ext cx="798480" cy="765360"/>
          </a:xfrm>
          <a:prstGeom prst="rect">
            <a:avLst/>
          </a:prstGeom>
          <a:ln w="0">
            <a:noFill/>
          </a:ln>
        </p:spPr>
      </p:pic>
      <p:sp>
        <p:nvSpPr>
          <p:cNvPr id="243" name="Line 7"/>
          <p:cNvSpPr/>
          <p:nvPr/>
        </p:nvSpPr>
        <p:spPr>
          <a:xfrm>
            <a:off x="304920" y="1268280"/>
            <a:ext cx="8610480" cy="27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990520" y="601488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г.Бишкек -2018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676440" y="23796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y-KG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хнический регламент ЕАЭ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О безопасности средств индивидуальной защиты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ТР ТС 019/201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Рисунок 1" descr=""/>
          <p:cNvPicPr/>
          <p:nvPr/>
        </p:nvPicPr>
        <p:blipFill>
          <a:blip r:embed="rId2"/>
          <a:stretch/>
        </p:blipFill>
        <p:spPr>
          <a:xfrm>
            <a:off x="309600" y="230040"/>
            <a:ext cx="13302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9"/>
          <p:cNvSpPr/>
          <p:nvPr/>
        </p:nvSpPr>
        <p:spPr>
          <a:xfrm>
            <a:off x="457200" y="228600"/>
            <a:ext cx="815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ный проект был одобрен Правительством КР и  согласно Распоряжения Правительства Кыргызской Республики от 11 июня 2018 года за № 198-р Министерству финансов Кыргызской Республики было поручено выделить Министерству чрезвычайных ситуаций Кыргызской Республики для создания испытательной пожарной лаборатории 10 000 000 (десять миллионов) сомов. Для приобретения установок и оборудов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днако, в рамках данного проекта создать специализированную лабораторию по определению годности СИЗ, не имеется возмож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9"/>
          <p:cNvSpPr/>
          <p:nvPr/>
        </p:nvSpPr>
        <p:spPr>
          <a:xfrm>
            <a:off x="457200" y="228600"/>
            <a:ext cx="8261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лем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читывая, что СИЗ в большинстве своем состоят из специальных материалов, содержащих химические волокна и вещества (в т.ч поглотители и др.), металлическую часть, требующие определенных правил и методов утилизации, в дальнейшем могут возникнуть проблемы с их утилизацией. Эта проблема существует и в настоящее врем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 ТР «О безопасности средств индивидуальной защиты» указано, что Требования к проектированию, производству, эксплуатации, хранению,перевозке, реализации и утилизации средств индивидуальной защиты не регулируются положениями настоящего технического регламента Таможенного союза и устанавливаются законодательством государства - члена Таможенного союз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9"/>
          <p:cNvSpPr/>
          <p:nvPr/>
        </p:nvSpPr>
        <p:spPr>
          <a:xfrm>
            <a:off x="425520" y="263520"/>
            <a:ext cx="826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огласно Плана мероприятий по применению технических регламентов Таможенного союза/Евразийского экономического союза в Кыргызской Республике от 29 марта 2017 года № 184  МЧС КР является уполномоченным органом, ответственный за реализацию положений ТР ЕАЭС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Р ТС 019/2011 «О безопасности средств индивидуальной защиты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Р ЕАЭС 043/2017 "О требованиях к средствам обеспечения пожарной безопасности и пожаротушения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ект ТР «О безопасности продукции, предназначенной для гражданской обороны и защиты от чрезвычайных ситуаций природного и техногенного характера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9"/>
          <p:cNvSpPr/>
          <p:nvPr/>
        </p:nvSpPr>
        <p:spPr>
          <a:xfrm>
            <a:off x="352440" y="257040"/>
            <a:ext cx="826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хнический регламент Таможенного союза «О безопасности средств индивидуальной защиты» (ТР ТС 019/20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астоящий технический регламент Таможенного союза разработан с целью установления на единой таможенной территории Таможенного союза единых обязательных для применения и исполнения требований к средствам индивидуальной защиты, обеспечения свободного перемещения средств индивидуальной защиты, выпускаемых в обращение на единой таможенной территории Таможенного союз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9"/>
          <p:cNvSpPr/>
          <p:nvPr/>
        </p:nvSpPr>
        <p:spPr>
          <a:xfrm>
            <a:off x="352440" y="257040"/>
            <a:ext cx="826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астоящий технический регламент Таможенного союза распространяется на средства индивидуальной защиты, независимо от страны происхождения, ранее не находившиеся в эксплуатации (новые) и выпускаемые в обращение на единой таможенной территории Таможенного союз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 настоящем техническом регламенте Таможенного союза под безопасностью средств индивидуальной защиты понимае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тсутствие недопустимого воздействия на человека и окружающую среду, обусловленного использованием средств индивидуальной защиты, в том числе воздействием материалов, из которых они изготовле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беспечение безопасности человека при воздействии на него вредных (опасных) факторов в процессе эксплуатации средств индивидуальной защиты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9"/>
          <p:cNvSpPr/>
          <p:nvPr/>
        </p:nvSpPr>
        <p:spPr>
          <a:xfrm>
            <a:off x="352440" y="257040"/>
            <a:ext cx="826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механические воздействия и общие производственные загрязн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вредные химические вещест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ионизирующие и неионизирующие излуч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воздействие повышенной (пониженной) температу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воздействие электрического тока, электрических и электромагнитных пол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воздействие биологических факторов (микроорганизмы, насекомые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пониженная видим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9"/>
          <p:cNvSpPr/>
          <p:nvPr/>
        </p:nvSpPr>
        <p:spPr>
          <a:xfrm>
            <a:off x="352440" y="257040"/>
            <a:ext cx="826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 2017 году  МЧС КР организовало с уполномоченными государственными органами видеоконференцию с уполномоченными госорганами стран ЕАЭС  по обсуждению внесений изменений в ТР «О безопасности СИЗ«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кст ТР был выслан всем территориальным и структурным подразделениям МЧС К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9"/>
          <p:cNvSpPr/>
          <p:nvPr/>
        </p:nvSpPr>
        <p:spPr>
          <a:xfrm>
            <a:off x="457200" y="228600"/>
            <a:ext cx="826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огласно ТР «О безопасности средств индивидуальной защиты» и проекта ТР «О безопасности продукции, предназначенной для гражданской обороны и защиты от чрезвычайных ситуаций природного и техногенного характера« методы испытаний, указанные в перечне стандартов могут производиться в специализированных аккредитованных испытательных лаборатор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анее, в 2000 годах в МЧС КР функционировала химико-дозиметрическая лаборатория, имеющая возможности проводить испытания СИЗ, на герметичность, целостность, растяжимость противогазов,  пропускаемость фильтр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 настоящее время лаборатория не существует. В республике не имеется специализированной лаборатории для испытаний противогазов, с целью определения годности. То есть оценку соответствия могут предоставить только аккредитованные лаборатории, находящиеся в странах ЕАЭС, входящих в установленный Перечен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457200" y="228600"/>
            <a:ext cx="826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инистерством ЧС КР в связи с денонсацией соглащения по оснащению Испытательных лабораторий,  разработало проект поэтапного создания ИПЛ МЧС КР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новными функциями которой стану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) Проведение испытаний веществ и материалов, изделий, оборудования и конструк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)Экспертные исследования по делам о пожарах и нарушения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) Исследование пожаров, представляющих практический интерес, в том числе для оказания технической, информационной и аналитической поддержки деятельности правоохранительных органов, занимающихся расследованием пожа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9"/>
          <p:cNvSpPr/>
          <p:nvPr/>
        </p:nvSpPr>
        <p:spPr>
          <a:xfrm>
            <a:off x="457200" y="228600"/>
            <a:ext cx="826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пределени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группы горючести веществ и материалов (строительных и отделочных материалов, игрушек, мебели и т.п.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пожарозащищенности электрооборудован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показателя токсичности продуктов горения веществ и материалов (строительных и отделочных материалов, игрушек, мебели и т.п.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показателей взрывопожароопасной и пожарной опасности вещест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плотности дыма при горении строительных, отделочных материалов, электрических кабелей и проводов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классификации строительных, текстильных и кожевенных материалов по пожарной безопасност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степени и качества термической защиты и огнезащитной обработки строительных материалов, конструкций, мягких театральных декорац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Gigabyte</cp:lastModifiedBy>
  <dcterms:modified xsi:type="dcterms:W3CDTF">2018-10-29T05:03:34Z</dcterms:modified>
  <cp:revision>2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